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C760-BFF8-4906-92CD-718D33815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7B10-FA4D-4F24-A33A-3576683E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86A1-F134-4ACE-8C7D-E66C9749C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099C-514E-4EC1-8345-ACCC66FFF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802F-D006-4F92-B068-1B603E868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0CE3-0295-4E20-A750-9E153A38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2947-08EA-4FC7-B545-706DA275B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7A9C-9C0D-4077-837C-9029040E6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CCF9-573E-4CAF-9F59-3F0C444F7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1587-4156-4FCA-97D6-283F1E02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AF53-6FD0-426F-8CEA-883C30E6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DCA2-124E-4A72-9915-F5302799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E56E0-3CC7-4226-8974-2240B14BB4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24000" y="1916280"/>
            <a:ext cx="8640720" cy="28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AS AVENTURAS  D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ULIS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68360" y="3860640"/>
            <a:ext cx="3816360" cy="27943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5076720" y="3860640"/>
            <a:ext cx="3735360" cy="27082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2627280" y="3141720"/>
            <a:ext cx="4154400" cy="89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AS SIRENAS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0"/>
            <a:ext cx="86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Con su dulce melodía atraen a las personas hasta la muer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908000" y="333360"/>
            <a:ext cx="5543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ESCILA Y CARIBDIS</a:t>
            </a:r>
            <a:endParaRPr b="1" lang="en-US" sz="1800" spc="1" strike="noStrike">
              <a:ln w="3816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0" y="5876640"/>
            <a:ext cx="914544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os los estrechos de los mares son peligrosos, y en ellos se esconden criaturas monstruos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3457440" cy="17463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64" name=""/>
          <p:cNvSpPr txBox="1"/>
          <p:nvPr/>
        </p:nvSpPr>
        <p:spPr>
          <a:xfrm>
            <a:off x="0" y="6021360"/>
            <a:ext cx="8982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VACAS SAGRADAS DEL DIOS HELIO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Ulises pasó un largo tiempo con la ninfa Calip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79280" y="4221000"/>
            <a:ext cx="3241800" cy="2422800"/>
          </a:xfrm>
          <a:prstGeom prst="rect">
            <a:avLst/>
          </a:prstGeom>
          <a:ln w="38160">
            <a:solidFill>
              <a:srgbClr val="cc0000"/>
            </a:solidFill>
            <a:miter/>
          </a:ln>
          <a:effectLst>
            <a:outerShdw dist="107932" dir="135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7" name=""/>
          <p:cNvSpPr txBox="1"/>
          <p:nvPr/>
        </p:nvSpPr>
        <p:spPr>
          <a:xfrm>
            <a:off x="2050920" y="692280"/>
            <a:ext cx="56167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LA NINFA CALIPSO</a:t>
            </a:r>
            <a:endParaRPr b="0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811840" y="189000"/>
            <a:ext cx="3332160" cy="66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Unicode MS"/>
              </a:rPr>
              <a:t>ISLA DE L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Unicode MS"/>
              </a:rPr>
              <a:t>FEAC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763640" y="404640"/>
            <a:ext cx="576108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6600"/>
                  </a:solidFill>
                  <a:miter/>
                </a:ln>
                <a:solidFill>
                  <a:srgbClr val="ffcc00"/>
                </a:solidFill>
                <a:effectLst>
                  <a:outerShdw dist="107932" dir="8100000" blurRad="0" rotWithShape="0">
                    <a:srgbClr val="3399ff">
                      <a:alpha val="50000"/>
                    </a:srgbClr>
                  </a:outerShdw>
                </a:effectLst>
                <a:latin typeface="Arial Black"/>
              </a:rPr>
              <a:t>EL REGRESO A ÍTACA</a:t>
            </a:r>
            <a:endParaRPr b="0" lang="en-US" sz="1800" spc="1" strike="noStrike">
              <a:ln w="28440">
                <a:solidFill>
                  <a:srgbClr val="ff6600"/>
                </a:solidFill>
                <a:miter/>
              </a:ln>
              <a:solidFill>
                <a:srgbClr val="ffcc00"/>
              </a:solidFill>
              <a:effectLst>
                <a:outerShdw dist="107932" dir="8100000" blurRad="0" rotWithShape="0">
                  <a:srgbClr val="33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403280" y="5516640"/>
            <a:ext cx="6048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A BATALLA DE TROYA</a:t>
            </a:r>
            <a:endParaRPr b="0" lang="en-US" sz="1800" spc="1" strike="noStrike">
              <a:ln w="28440">
                <a:solidFill>
                  <a:srgbClr val="8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51280" y="85680"/>
            <a:ext cx="5292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                  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Unicode MS"/>
              </a:rPr>
              <a:t>ISLA D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            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Unicode MS"/>
              </a:rPr>
              <a:t>LOS CIC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71640" y="1700280"/>
            <a:ext cx="3117600" cy="31240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076720" y="1773360"/>
            <a:ext cx="3573720" cy="2896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55280" y="5589720"/>
            <a:ext cx="7993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La flor de loto tiene unos efectos alucinógenos cuando la toma un ser huma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619280" y="620640"/>
            <a:ext cx="6121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6600cc"/>
                  </a:solidFill>
                  <a:miter/>
                </a:ln>
                <a:solidFill>
                  <a:srgbClr val="cc66ff"/>
                </a:solidFill>
                <a:latin typeface="Arial Black"/>
              </a:rPr>
              <a:t>LA FLOR DE LOTO</a:t>
            </a:r>
            <a:endParaRPr b="0" lang="en-US" sz="1800" spc="1" strike="noStrike">
              <a:ln w="38160">
                <a:solidFill>
                  <a:srgbClr val="6600cc"/>
                </a:solidFill>
                <a:miter/>
              </a:ln>
              <a:solidFill>
                <a:srgbClr val="cc66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4176720" cy="4751280"/>
          </a:xfrm>
          <a:prstGeom prst="rect">
            <a:avLst/>
          </a:prstGeom>
          <a:ln w="76320">
            <a:solidFill>
              <a:srgbClr val="663300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703760" y="1557360"/>
            <a:ext cx="3925800" cy="4751280"/>
          </a:xfrm>
          <a:prstGeom prst="rect">
            <a:avLst/>
          </a:prstGeom>
          <a:ln w="76320">
            <a:solidFill>
              <a:srgbClr val="663300"/>
            </a:solidFill>
            <a:miter/>
          </a:ln>
        </p:spPr>
      </p:pic>
      <p:sp>
        <p:nvSpPr>
          <p:cNvPr id="50" name=""/>
          <p:cNvSpPr txBox="1"/>
          <p:nvPr/>
        </p:nvSpPr>
        <p:spPr>
          <a:xfrm>
            <a:off x="324000" y="0"/>
            <a:ext cx="849600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6633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EL CICLOPE ANTROPÓFAGO POLIFEMO</a:t>
            </a:r>
            <a:endParaRPr b="0" lang="en-US" sz="1800" spc="1" strike="noStrike">
              <a:ln w="38160">
                <a:solidFill>
                  <a:srgbClr val="6633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0920" y="141120"/>
            <a:ext cx="8642160" cy="6485040"/>
          </a:xfrm>
          <a:prstGeom prst="rect">
            <a:avLst/>
          </a:prstGeom>
          <a:ln w="57240">
            <a:solidFill>
              <a:srgbClr val="ffffff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2" name=""/>
          <p:cNvSpPr txBox="1"/>
          <p:nvPr/>
        </p:nvSpPr>
        <p:spPr>
          <a:xfrm>
            <a:off x="250920" y="333360"/>
            <a:ext cx="3960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L DIOS EOL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79280" y="333360"/>
            <a:ext cx="87346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L ATAQUE DE LOS LESTRIGON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900000" y="6308640"/>
            <a:ext cx="7786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vierte a todo ser humano en anim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124000" y="5300640"/>
            <a:ext cx="46245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LA MAGA CIRC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84360" y="404640"/>
            <a:ext cx="7632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669900"/>
                </a:solidFill>
                <a:latin typeface="Arial Black"/>
              </a:rPr>
              <a:t>BAJADA A LOS INFIERNOS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6699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8:57:08Z</dcterms:created>
  <dc:creator>MIGUEL</dc:creator>
  <dc:description/>
  <dc:language>en-US</dc:language>
  <cp:lastModifiedBy>MIGUEL</cp:lastModifiedBy>
  <dcterms:modified xsi:type="dcterms:W3CDTF">2010-11-08T15:05:47Z</dcterms:modified>
  <cp:revision>15</cp:revision>
  <dc:subject/>
  <dc:title>Diapositiva 1</dc:title>
</cp:coreProperties>
</file>